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0980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892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2768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0980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41892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82768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8C0-A010-4FBA-A0E6-3DAFB36F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27F-6A0E-486B-84F2-46F4C970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3ED-71F9-4AE5-B3A9-18DE3A09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DEA-DF63-4ED4-A18B-B4174364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187-5C81-4D95-866A-411801F7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283-9A04-4CA4-8E03-A972C72B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CA1-2EAC-4363-95DC-A12E77AE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749-DBDF-457B-9FD4-A97587AA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F8F-367A-4D6F-ABB6-51FC411D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489-61A0-4529-9776-D5668E0B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011-9D30-44A8-963A-EC877E5F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00980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1892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2768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130-58A8-4710-8A37-064AF41D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5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5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YAxisTick3"/>
            <p:cNvSpPr/>
            <p:nvPr/>
          </p:nvSpPr>
          <p:spPr>
            <a:xfrm>
              <a:off x="888840" y="190476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55"/>
          <p:cNvSpPr/>
          <p:nvPr/>
        </p:nvSpPr>
        <p:spPr>
          <a:xfrm>
            <a:off x="-68400" y="4041720"/>
            <a:ext cx="1743120" cy="1909800"/>
          </a:xfrm>
          <a:prstGeom prst="pie">
            <a:avLst/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2"/>
          <p:cNvSpPr/>
          <p:nvPr/>
        </p:nvSpPr>
        <p:spPr>
          <a:xfrm>
            <a:off x="520560" y="1095480"/>
            <a:ext cx="1909800" cy="190980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1"/>
          <p:cNvSpPr/>
          <p:nvPr/>
        </p:nvSpPr>
        <p:spPr>
          <a:xfrm>
            <a:off x="1879560" y="282600"/>
            <a:ext cx="1908360" cy="190980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3"/>
          <p:cNvSpPr/>
          <p:nvPr/>
        </p:nvSpPr>
        <p:spPr>
          <a:xfrm>
            <a:off x="520560" y="5729400"/>
            <a:ext cx="1909800" cy="1193760"/>
          </a:xfrm>
          <a:prstGeom prst="pie">
            <a:avLst/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9"/>
          <p:cNvSpPr/>
          <p:nvPr/>
        </p:nvSpPr>
        <p:spPr>
          <a:xfrm>
            <a:off x="-44280" y="-58680"/>
            <a:ext cx="1447560" cy="1674720"/>
          </a:xfrm>
          <a:prstGeom prst="pie">
            <a:avLst/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30"/>
          <p:cNvSpPr/>
          <p:nvPr/>
        </p:nvSpPr>
        <p:spPr>
          <a:xfrm>
            <a:off x="923760" y="-160200"/>
            <a:ext cx="1909800" cy="1908000"/>
          </a:xfrm>
          <a:prstGeom prst="ellipse">
            <a:avLst/>
          </a:prstGeom>
          <a:solidFill>
            <a:srgbClr val="fdc51b">
              <a:alpha val="2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31"/>
          <p:cNvSpPr/>
          <p:nvPr/>
        </p:nvSpPr>
        <p:spPr>
          <a:xfrm>
            <a:off x="0" y="660240"/>
            <a:ext cx="1909800" cy="1909800"/>
          </a:xfrm>
          <a:prstGeom prst="ellipse">
            <a:avLst/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32"/>
          <p:cNvSpPr/>
          <p:nvPr/>
        </p:nvSpPr>
        <p:spPr>
          <a:xfrm>
            <a:off x="7497720" y="-58680"/>
            <a:ext cx="1693800" cy="1674720"/>
          </a:xfrm>
          <a:prstGeom prst="pie">
            <a:avLst/>
          </a:prstGeom>
          <a:solidFill>
            <a:srgbClr val="ffe181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33"/>
          <p:cNvSpPr/>
          <p:nvPr/>
        </p:nvSpPr>
        <p:spPr>
          <a:xfrm>
            <a:off x="6118200" y="-58680"/>
            <a:ext cx="1908360" cy="1703160"/>
          </a:xfrm>
          <a:prstGeom prst="pie">
            <a:avLst/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4"/>
          <p:cNvSpPr/>
          <p:nvPr/>
        </p:nvSpPr>
        <p:spPr>
          <a:xfrm>
            <a:off x="7494480" y="1095480"/>
            <a:ext cx="1697040" cy="1909800"/>
          </a:xfrm>
          <a:prstGeom prst="pie">
            <a:avLst/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35"/>
          <p:cNvSpPr/>
          <p:nvPr/>
        </p:nvSpPr>
        <p:spPr>
          <a:xfrm>
            <a:off x="8056440" y="5140440"/>
            <a:ext cx="1138320" cy="1758960"/>
          </a:xfrm>
          <a:prstGeom prst="pie">
            <a:avLst/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6"/>
          <p:cNvSpPr/>
          <p:nvPr/>
        </p:nvSpPr>
        <p:spPr>
          <a:xfrm>
            <a:off x="6661080" y="4362480"/>
            <a:ext cx="1909800" cy="1909800"/>
          </a:xfrm>
          <a:prstGeom prst="ellipse">
            <a:avLst/>
          </a:prstGeom>
          <a:solidFill>
            <a:srgbClr val="fdc51b">
              <a:alpha val="5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37"/>
          <p:cNvSpPr/>
          <p:nvPr/>
        </p:nvSpPr>
        <p:spPr>
          <a:xfrm>
            <a:off x="-68400" y="4948200"/>
            <a:ext cx="1352520" cy="1909800"/>
          </a:xfrm>
          <a:prstGeom prst="pie">
            <a:avLst/>
          </a:prstGeom>
          <a:solidFill>
            <a:srgbClr val="fdc51b">
              <a:alpha val="16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8"/>
          <p:cNvSpPr/>
          <p:nvPr/>
        </p:nvSpPr>
        <p:spPr>
          <a:xfrm>
            <a:off x="708120" y="4791240"/>
            <a:ext cx="1909800" cy="1908000"/>
          </a:xfrm>
          <a:prstGeom prst="ellipse">
            <a:avLst/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9"/>
          <p:cNvSpPr/>
          <p:nvPr/>
        </p:nvSpPr>
        <p:spPr>
          <a:xfrm>
            <a:off x="6118200" y="784080"/>
            <a:ext cx="1908360" cy="1909800"/>
          </a:xfrm>
          <a:prstGeom prst="ellipse">
            <a:avLst/>
          </a:prstGeom>
          <a:solidFill>
            <a:srgbClr val="fdc51b">
              <a:alpha val="14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0"/>
          <p:cNvSpPr/>
          <p:nvPr/>
        </p:nvSpPr>
        <p:spPr>
          <a:xfrm>
            <a:off x="6459480" y="5140440"/>
            <a:ext cx="1909800" cy="190980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17"/>
          <p:cNvSpPr/>
          <p:nvPr/>
        </p:nvSpPr>
        <p:spPr>
          <a:xfrm>
            <a:off x="8397720" y="598320"/>
            <a:ext cx="793800" cy="1252800"/>
          </a:xfrm>
          <a:prstGeom prst="pi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8"/>
          <p:cNvSpPr/>
          <p:nvPr/>
        </p:nvSpPr>
        <p:spPr>
          <a:xfrm>
            <a:off x="6350040" y="206280"/>
            <a:ext cx="1041480" cy="104148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9"/>
          <p:cNvSpPr/>
          <p:nvPr/>
        </p:nvSpPr>
        <p:spPr>
          <a:xfrm>
            <a:off x="6872400" y="1450800"/>
            <a:ext cx="1217520" cy="121788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0"/>
          <p:cNvSpPr/>
          <p:nvPr/>
        </p:nvSpPr>
        <p:spPr>
          <a:xfrm>
            <a:off x="7219800" y="2049480"/>
            <a:ext cx="1041480" cy="104148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1"/>
          <p:cNvSpPr/>
          <p:nvPr/>
        </p:nvSpPr>
        <p:spPr>
          <a:xfrm>
            <a:off x="7750080" y="2662200"/>
            <a:ext cx="720720" cy="72072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2"/>
          <p:cNvSpPr/>
          <p:nvPr/>
        </p:nvSpPr>
        <p:spPr>
          <a:xfrm>
            <a:off x="685800" y="-98280"/>
            <a:ext cx="1193760" cy="695160"/>
          </a:xfrm>
          <a:prstGeom prst="pi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23"/>
          <p:cNvSpPr/>
          <p:nvPr/>
        </p:nvSpPr>
        <p:spPr>
          <a:xfrm>
            <a:off x="1501920" y="-98280"/>
            <a:ext cx="1030320" cy="457200"/>
          </a:xfrm>
          <a:prstGeom prst="pi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4"/>
          <p:cNvSpPr/>
          <p:nvPr/>
        </p:nvSpPr>
        <p:spPr>
          <a:xfrm>
            <a:off x="-68400" y="-98280"/>
            <a:ext cx="588960" cy="609480"/>
          </a:xfrm>
          <a:prstGeom prst="pi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25"/>
          <p:cNvSpPr/>
          <p:nvPr/>
        </p:nvSpPr>
        <p:spPr>
          <a:xfrm>
            <a:off x="277920" y="4321080"/>
            <a:ext cx="1396800" cy="1397160"/>
          </a:xfrm>
          <a:prstGeom prst="ellipse">
            <a:avLst/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6"/>
          <p:cNvSpPr/>
          <p:nvPr/>
        </p:nvSpPr>
        <p:spPr>
          <a:xfrm>
            <a:off x="5791320" y="6489720"/>
            <a:ext cx="1116000" cy="444600"/>
          </a:xfrm>
          <a:prstGeom prst="pie">
            <a:avLst/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27"/>
          <p:cNvSpPr/>
          <p:nvPr/>
        </p:nvSpPr>
        <p:spPr>
          <a:xfrm>
            <a:off x="6127920" y="6408720"/>
            <a:ext cx="1236600" cy="525600"/>
          </a:xfrm>
          <a:prstGeom prst="pie">
            <a:avLst/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8"/>
          <p:cNvSpPr/>
          <p:nvPr/>
        </p:nvSpPr>
        <p:spPr>
          <a:xfrm>
            <a:off x="7577280" y="6408720"/>
            <a:ext cx="1211040" cy="525600"/>
          </a:xfrm>
          <a:prstGeom prst="pie">
            <a:avLst/>
          </a:prstGeom>
          <a:solidFill>
            <a:srgbClr val="fdc51b">
              <a:alpha val="5000"/>
            </a:srgbClr>
          </a:solidFill>
          <a:ln cap="rnd" w="177840">
            <a:solidFill>
              <a:srgbClr val="feeaac">
                <a:alpha val="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-68400" y="6172200"/>
            <a:ext cx="776520" cy="75096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8"/>
          <p:cNvSpPr/>
          <p:nvPr/>
        </p:nvSpPr>
        <p:spPr>
          <a:xfrm>
            <a:off x="-68400" y="5159520"/>
            <a:ext cx="561960" cy="89676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9"/>
          <p:cNvSpPr/>
          <p:nvPr/>
        </p:nvSpPr>
        <p:spPr>
          <a:xfrm>
            <a:off x="-23760" y="482760"/>
            <a:ext cx="595440" cy="90468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0"/>
          <p:cNvSpPr/>
          <p:nvPr/>
        </p:nvSpPr>
        <p:spPr>
          <a:xfrm>
            <a:off x="474840" y="836640"/>
            <a:ext cx="909360" cy="91116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1"/>
          <p:cNvSpPr/>
          <p:nvPr/>
        </p:nvSpPr>
        <p:spPr>
          <a:xfrm>
            <a:off x="318960" y="1452600"/>
            <a:ext cx="773280" cy="77292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03"/>
          <p:cNvSpPr/>
          <p:nvPr/>
        </p:nvSpPr>
        <p:spPr>
          <a:xfrm>
            <a:off x="155520" y="1919160"/>
            <a:ext cx="520920" cy="52236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4"/>
          <p:cNvSpPr/>
          <p:nvPr/>
        </p:nvSpPr>
        <p:spPr>
          <a:xfrm>
            <a:off x="7302600" y="-58680"/>
            <a:ext cx="911160" cy="74772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05"/>
          <p:cNvSpPr/>
          <p:nvPr/>
        </p:nvSpPr>
        <p:spPr>
          <a:xfrm>
            <a:off x="8718480" y="-58680"/>
            <a:ext cx="473040" cy="61128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07"/>
          <p:cNvSpPr/>
          <p:nvPr/>
        </p:nvSpPr>
        <p:spPr>
          <a:xfrm>
            <a:off x="8915400" y="749160"/>
            <a:ext cx="276120" cy="90828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8"/>
          <p:cNvSpPr/>
          <p:nvPr/>
        </p:nvSpPr>
        <p:spPr>
          <a:xfrm>
            <a:off x="7591320" y="728640"/>
            <a:ext cx="968400" cy="96984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3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0"/>
          <p:cNvSpPr/>
          <p:nvPr/>
        </p:nvSpPr>
        <p:spPr>
          <a:xfrm>
            <a:off x="7629480" y="5611680"/>
            <a:ext cx="739800" cy="73836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11"/>
          <p:cNvSpPr/>
          <p:nvPr/>
        </p:nvSpPr>
        <p:spPr>
          <a:xfrm>
            <a:off x="6972480" y="5241960"/>
            <a:ext cx="739440" cy="7398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7494480" y="4927680"/>
            <a:ext cx="738360" cy="7398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8229600" y="5667480"/>
            <a:ext cx="604800" cy="6048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8078760" y="4097160"/>
            <a:ext cx="554040" cy="55404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8412120" y="5057640"/>
            <a:ext cx="554040" cy="55404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8688240" y="4791240"/>
            <a:ext cx="503280" cy="552240"/>
          </a:xfrm>
          <a:prstGeom prst="pi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4572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9144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1371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1371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1371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239C-A41B-4CBA-9783-825121B8B217}" type="datetime"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E2D5-5B41-4939-9BC7-FBC035E885F3}" type="slidenum"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54"/>
          <p:cNvSpPr/>
          <p:nvPr/>
        </p:nvSpPr>
        <p:spPr>
          <a:xfrm>
            <a:off x="1582560" y="5454720"/>
            <a:ext cx="1909800" cy="1468440"/>
          </a:xfrm>
          <a:prstGeom prst="pie">
            <a:avLst/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6"/>
          <p:cNvSpPr/>
          <p:nvPr/>
        </p:nvSpPr>
        <p:spPr>
          <a:xfrm>
            <a:off x="8570880" y="3382920"/>
            <a:ext cx="306360" cy="30636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7"/>
          <p:cNvSpPr/>
          <p:nvPr/>
        </p:nvSpPr>
        <p:spPr>
          <a:xfrm>
            <a:off x="8397720" y="3537000"/>
            <a:ext cx="306720" cy="30492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8"/>
          <p:cNvSpPr/>
          <p:nvPr/>
        </p:nvSpPr>
        <p:spPr>
          <a:xfrm>
            <a:off x="8609040" y="3689280"/>
            <a:ext cx="306360" cy="30492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9"/>
          <p:cNvSpPr/>
          <p:nvPr/>
        </p:nvSpPr>
        <p:spPr>
          <a:xfrm>
            <a:off x="155520" y="2698920"/>
            <a:ext cx="466920" cy="46656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1260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1"/>
          <p:cNvSpPr/>
          <p:nvPr/>
        </p:nvSpPr>
        <p:spPr>
          <a:xfrm>
            <a:off x="270000" y="3382920"/>
            <a:ext cx="352440" cy="351000"/>
          </a:xfrm>
          <a:prstGeom prst="ellipse">
            <a:avLst/>
          </a:prstGeom>
          <a:solidFill>
            <a:srgbClr val="ffe181">
              <a:alpha val="5000"/>
            </a:srgbClr>
          </a:solidFill>
          <a:ln cap="rnd" w="63360">
            <a:solidFill>
              <a:srgbClr val="ffe181">
                <a:alpha val="14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2"/>
          <p:cNvSpPr/>
          <p:nvPr/>
        </p:nvSpPr>
        <p:spPr>
          <a:xfrm>
            <a:off x="-84240" y="2581200"/>
            <a:ext cx="1359000" cy="1909800"/>
          </a:xfrm>
          <a:prstGeom prst="pie">
            <a:avLst/>
          </a:prstGeom>
          <a:solidFill>
            <a:srgbClr val="fdc51b">
              <a:alpha val="7000"/>
            </a:srgbClr>
          </a:solidFill>
          <a:ln cap="rnd" w="330120">
            <a:solidFill>
              <a:srgbClr val="ffe181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3"/>
          <p:cNvSpPr/>
          <p:nvPr/>
        </p:nvSpPr>
        <p:spPr>
          <a:xfrm>
            <a:off x="6172200" y="2395440"/>
            <a:ext cx="1219320" cy="1217880"/>
          </a:xfrm>
          <a:prstGeom prst="ellipse">
            <a:avLst/>
          </a:prstGeom>
          <a:solidFill>
            <a:srgbClr val="fdc51b">
              <a:alpha val="10000"/>
            </a:srgbClr>
          </a:solidFill>
          <a:ln cap="rnd" w="177840">
            <a:solidFill>
              <a:srgbClr val="feeaac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historic Vocabulary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edd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Atlatl (ott – lattle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ling like tool that threw darts accurately for far distanc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191120" y="4267080"/>
            <a:ext cx="4690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Midden Heap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ound or deposit containing shells, animal bones, and other refuse (garbage) that indicates the site of a human settlemen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9307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Burial Mound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ound built over a grave or multiple grave sit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35719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Ceremonial Mound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aised mound where ceremonial / religious services are hel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2209680" y="4816440"/>
            <a:ext cx="4381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B.C.E. / B.C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efore the Common Era / Before Christ.  These dates run backward from 0 on a timeline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C.E. / A.D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Common Era / Anno Domini.  These dates run forward from 0 on a timeline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Effigy Mound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ounds of earth and stone in the shapes of birds, bear, deer, bison, lynx, turtle, panther, or wat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31179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Prehistory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09800" y="1806480"/>
            <a:ext cx="7124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ime before history was written dow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412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Archaeologis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entist who studies artifacts to learn about the lives of early peopl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5848200" y="380880"/>
            <a:ext cx="32958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Artifac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tems that are man-made such as pottery, jewelry, weapons, and tool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895480" y="4495680"/>
            <a:ext cx="3417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Ecofac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vidence that hasn’t been changed or touched by humans, such as seeds, animal bones, fossil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416560" y="228600"/>
            <a:ext cx="29368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Anthropologist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entist who studies artifacts, ecofacts, and oral histories to learn about a culture or group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52280" y="5067360"/>
            <a:ext cx="2286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Cultur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ehaviors and beliefs characteristic to a particular social, ethnic, or age group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114800" y="446040"/>
            <a:ext cx="46674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Horticulture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science of growing / farming plan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867280" y="4114800"/>
            <a:ext cx="20876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Verdana"/>
              </a:rPr>
              <a:t>Tribe or Cla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 group of people who share a common ancestry, name, and way of liv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5410080" y="76320"/>
            <a:ext cx="26402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00:04:00Z</dcterms:created>
  <dc:creator>Jennifer Crawford</dc:creator>
  <dc:description/>
  <dc:language>en-US</dc:language>
  <cp:lastModifiedBy>Catherine Hackney</cp:lastModifiedBy>
  <dcterms:modified xsi:type="dcterms:W3CDTF">2016-09-05T18:39:41Z</dcterms:modified>
  <cp:revision>9</cp:revision>
  <dc:subject/>
  <dc:title>Prehistoric Vocabul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